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clap.wav" ContentType="audio/x-wav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3.jpeg" ContentType="image/jpeg"/>
  <Override PartName="/ppt/media/gunshot.wav" ContentType="audio/x-wav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247-1EFD-4681-801E-6489EBC6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A1A-8447-46FF-A035-5DA02962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916-EE4B-4DBD-A9CC-5A0B4B84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537-3F05-43F7-B251-27758E33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78A-E93D-43BC-B12C-EF99C567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4417-8F46-4625-A54E-646F04CB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1AD-018F-4BE2-86D0-E035B69F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C39-B24F-4A72-B230-2FC50551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48D2-2856-471E-A7B0-B72E8B6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6C5E-915C-4BE1-BFC1-6E10F903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970A-B46B-48EC-816C-C9F37BB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485-D53C-4F30-89FF-0BF85493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4DA-67D5-4A54-8F8C-F2AB92B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8DC7-CA63-4E72-9DBC-8912440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2EC9-7496-4937-AB90-5393AE5B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D3AB-6D9B-4F20-A1C0-A23A16F5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B357-E805-4C5E-A1AD-FEAB4CC5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648D-449C-4CC7-B821-D7DC9A6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E30-C5FC-43BB-8802-BD019FE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1E0-8E18-4AF0-BAAF-EEBD119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E9B-82E9-4792-AFAB-242D8813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64F-F5FE-492E-8302-233FDD1D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0B7-2C6F-417F-A206-6485094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8E1-A5DD-4CA1-A86A-83875517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27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028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FB6E-333C-423D-A665-94D6BE25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A73A-F52A-49A3-97E0-8074E14BE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auses of WW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90560" y="2742840"/>
            <a:ext cx="5181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ita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li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per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gnificant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643280" y="404640"/>
            <a:ext cx="403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A. Finemess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www.SchoolHistory.co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1.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8 June 1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 to Austrian throne Franz Ferdinand visits Saraje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of Bosnia, recently grabbed by A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tbed of Slav 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FRANZ FERD"/>
          <p:cNvPicPr/>
          <p:nvPr/>
        </p:nvPicPr>
        <p:blipFill>
          <a:blip r:embed="rId1"/>
          <a:stretch/>
        </p:blipFill>
        <p:spPr>
          <a:xfrm>
            <a:off x="5059440" y="1752480"/>
            <a:ext cx="3017880" cy="2691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the-seal-of-the-Black-Hand"/>
          <p:cNvPicPr/>
          <p:nvPr/>
        </p:nvPicPr>
        <p:blipFill>
          <a:blip r:embed="rId2"/>
          <a:stretch/>
        </p:blipFill>
        <p:spPr>
          <a:xfrm>
            <a:off x="6286680" y="4545000"/>
            <a:ext cx="1714320" cy="1703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5013360" y="495144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eal of the Black Hand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3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lack Hand” terrorists attack the Arch D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mb attempt fails in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vrilo Princip shoots Archduke and wife in the aftern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ns blame Serbia for supporting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BLOODY JACKET"/>
          <p:cNvPicPr/>
          <p:nvPr/>
        </p:nvPicPr>
        <p:blipFill>
          <a:blip r:embed="rId1"/>
          <a:stretch/>
        </p:blipFill>
        <p:spPr>
          <a:xfrm>
            <a:off x="6781680" y="1752480"/>
            <a:ext cx="175284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PRINCIP"/>
          <p:cNvPicPr/>
          <p:nvPr/>
        </p:nvPicPr>
        <p:blipFill>
          <a:blip r:embed="rId2"/>
          <a:stretch/>
        </p:blipFill>
        <p:spPr>
          <a:xfrm>
            <a:off x="6964200" y="4191120"/>
            <a:ext cx="149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Crisis 3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strians, supported by Germany, send Serbia a tough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 agrees to all but two terms of the ultimat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ssia mobilises her troops to support 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mands that Russia stands her armies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declares war on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berchtold"/>
          <p:cNvPicPr/>
          <p:nvPr/>
        </p:nvPicPr>
        <p:blipFill>
          <a:blip r:embed="rId1"/>
          <a:stretch/>
        </p:blipFill>
        <p:spPr>
          <a:xfrm>
            <a:off x="6477120" y="3733920"/>
            <a:ext cx="16002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248520" y="2209680"/>
            <a:ext cx="213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mands must be put to Serbia that would be wholly impossible for them to accept 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Why did Britain get involved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267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tain h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ten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ith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“friendly agreements” but French and Russians given impression Britain would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chlieffe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ir%20Edward%20Grey+"/>
          <p:cNvPicPr/>
          <p:nvPr/>
        </p:nvPicPr>
        <p:blipFill>
          <a:blip r:embed="rId1"/>
          <a:stretch/>
        </p:blipFill>
        <p:spPr>
          <a:xfrm>
            <a:off x="5483160" y="2971800"/>
            <a:ext cx="21924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410080" y="1981080"/>
            <a:ext cx="266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ir Edward Gr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ritish Foreign Secretary  … “There’s some devilry going on in Berli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The Schlieffen Pl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y’s military plan to defeat France and Rus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nock out blow” aimed at Franc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oid French defences by invasion of Belg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rmans thought Britain would not interv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planSchlieffen"/>
          <p:cNvPicPr/>
          <p:nvPr/>
        </p:nvPicPr>
        <p:blipFill>
          <a:blip r:embed="rId1"/>
          <a:stretch/>
        </p:blipFill>
        <p:spPr>
          <a:xfrm>
            <a:off x="4876920" y="1905120"/>
            <a:ext cx="34290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Britain’s Rea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38- UK had signed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ea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protect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also scared of Germany controll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or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not wan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defeat France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minate Euro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Britain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K issue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ltimat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 Germany to withdraw troops from Belgium.  War declared August 4 19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scrapofpaper-1914-britain"/>
          <p:cNvPicPr/>
          <p:nvPr/>
        </p:nvPicPr>
        <p:blipFill>
          <a:blip r:embed="rId1"/>
          <a:stretch/>
        </p:blipFill>
        <p:spPr>
          <a:xfrm>
            <a:off x="5226120" y="1676520"/>
            <a:ext cx="3308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the UK to build battle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an attack on their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readnought"/>
          <p:cNvPicPr/>
          <p:nvPr/>
        </p:nvPicPr>
        <p:blipFill>
          <a:blip r:embed="rId1"/>
          <a:stretch/>
        </p:blipFill>
        <p:spPr>
          <a:xfrm>
            <a:off x="6067440" y="1981080"/>
            <a:ext cx="2543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Militarism 2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y was competing with Russia and France to expand their ar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88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9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5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73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4.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.40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RUSSIAN TROOPS"/>
          <p:cNvPicPr/>
          <p:nvPr/>
        </p:nvPicPr>
        <p:blipFill>
          <a:blip r:embed="rId1"/>
          <a:stretch/>
        </p:blipFill>
        <p:spPr>
          <a:xfrm>
            <a:off x="6095880" y="167652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wilhelm and troops"/>
          <p:cNvPicPr/>
          <p:nvPr/>
        </p:nvPicPr>
        <p:blipFill>
          <a:blip r:embed="rId2"/>
          <a:stretch/>
        </p:blipFill>
        <p:spPr>
          <a:xfrm>
            <a:off x="6146640" y="3962520"/>
            <a:ext cx="2463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llia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y 1914 all the major powers were linked by a system of alli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lliances made it more likely that a war would st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started, the alliances made it more likely to sp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LLINANCES"/>
          <p:cNvPicPr/>
          <p:nvPr/>
        </p:nvPicPr>
        <p:blipFill>
          <a:blip r:embed="rId1"/>
          <a:stretch/>
        </p:blipFill>
        <p:spPr>
          <a:xfrm>
            <a:off x="4724280" y="2119320"/>
            <a:ext cx="3889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Imperi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the great powers were competing for colonies / terri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British feared Germany in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ustrians feared Serbia / Russia in the Balk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Nationalis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was an age when all nations wanted to assert their power and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urope Slavs, aided by Serbia and Russia, wanted to be free of Austrian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serb symbol"/>
          <p:cNvPicPr/>
          <p:nvPr/>
        </p:nvPicPr>
        <p:blipFill>
          <a:blip r:embed="rId1"/>
          <a:stretch/>
        </p:blipFill>
        <p:spPr>
          <a:xfrm>
            <a:off x="4173480" y="3886200"/>
            <a:ext cx="169380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867280" y="4724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bia’s national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1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iser Wilhelm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ilt up German army and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ggressive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rmined to make Germany a top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rusted by other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Kaiser bill"/>
          <p:cNvPicPr/>
          <p:nvPr/>
        </p:nvPicPr>
        <p:blipFill>
          <a:blip r:embed="rId1"/>
          <a:stretch/>
        </p:blipFill>
        <p:spPr>
          <a:xfrm>
            <a:off x="6611760" y="3092400"/>
            <a:ext cx="2075040" cy="2927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6477120" y="1781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rmany must have its place in the 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world belongs to the strong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 Bercht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n Prime Min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July Crisis, decided on a very tough ultimatum for Ser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berchtold"/>
          <p:cNvPicPr/>
          <p:nvPr/>
        </p:nvPicPr>
        <p:blipFill>
          <a:blip r:embed="rId1"/>
          <a:stretch/>
        </p:blipFill>
        <p:spPr>
          <a:xfrm>
            <a:off x="5311800" y="1752480"/>
            <a:ext cx="240012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410080" y="518148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re the Serbs to agree to all the demands, this would not be to my li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Significant Individual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hmann Hollw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rman Prime Mini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ve very strong support to Austria during the July crisis while Kaiser was cruising on his y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thmann Hollweg"/>
          <p:cNvPicPr/>
          <p:nvPr/>
        </p:nvPicPr>
        <p:blipFill>
          <a:blip r:embed="rId1"/>
          <a:stretch/>
        </p:blipFill>
        <p:spPr>
          <a:xfrm>
            <a:off x="6202440" y="1752480"/>
            <a:ext cx="2027160" cy="2660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6172200" y="4565520"/>
            <a:ext cx="2514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he Austrian demands are moderate.  Any interference by Britain, France and Russia would be followed by incalculable consequ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8:16:01Z</dcterms:created>
  <dc:creator>nshaw</dc:creator>
  <dc:description/>
  <dc:language>en-US</dc:language>
  <cp:lastModifiedBy>Sacerdote, Kevin R.</cp:lastModifiedBy>
  <dcterms:modified xsi:type="dcterms:W3CDTF">2015-11-21T14:42:15Z</dcterms:modified>
  <cp:revision>16</cp:revision>
  <dc:subject/>
  <dc:title>The Causes of WW1</dc:title>
</cp:coreProperties>
</file>